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63F-C1D3-4507-B238-65F5E1A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595-1DCA-43DD-8008-E8300CE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983-0F5B-4A7D-9AA9-18FE5C00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D50-AC75-4073-BBC0-4F351D6F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AFB0-2BF9-4585-A08C-D2AD55FB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7044-50D4-4E96-AE23-1B3254B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EDDD-1A8B-4C09-B077-D3B0CF9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DC22-DEDE-4BFC-AAF8-F9829C3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6DAE-6FD7-425C-8E6B-C57BC3FC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645-E31F-417C-B85F-456D90BE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656-4E9B-418B-A31C-B9024587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408-BD8D-4198-B937-AD6ACBCB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CD2-BB61-47E1-AA7B-5EB9C00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6220-A5C1-41B4-B6C5-7B28532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2AA9-E908-4560-AB8C-5330740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B5B8-1331-4D57-8D0B-972B1E0D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35A5-166F-47D5-9A7B-B6FBF63A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C18-E415-43CF-8ADA-13EF5C21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C93-B58C-4A64-98B2-643C3098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565-CBA1-44C0-A27E-2E881F41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4B3-A4AF-4ACC-BB14-8635843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559-F73E-4E6A-A38B-F25DD4A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897-170D-40F0-A290-EBA7D14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AA8C-0645-409D-9436-E6E19D4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C011-2617-461C-AEFA-6AF545E6A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4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191F-2310-4E30-8791-3CCC2F5D8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361960"/>
            <a:ext cx="381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and Instrumen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struments can be played at different pitches by changing lengths of different part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other way to make different pitches is to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hange the thickness of the material that vibrat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7" name="Picture 6" descr="A2506_trombone_2col_1749"/>
          <p:cNvPicPr/>
          <p:nvPr/>
        </p:nvPicPr>
        <p:blipFill>
          <a:blip r:embed="rId1"/>
          <a:stretch/>
        </p:blipFill>
        <p:spPr>
          <a:xfrm>
            <a:off x="4495680" y="4038480"/>
            <a:ext cx="4267440" cy="173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685800" y="420372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rombone</a:t>
            </a:r>
            <a:r>
              <a:rPr b="0" lang="ja-JP" sz="28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 mute absorbs some of the sound waves produced, thus producing a softer note when play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191120" y="5410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7620120" y="2438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4E2C2F7B.WAV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n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 instrument that uses reflected sound waves to find underwater object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5" descr="sonar"/>
          <p:cNvPicPr/>
          <p:nvPr/>
        </p:nvPicPr>
        <p:blipFill>
          <a:blip r:embed="rId1"/>
          <a:stretch/>
        </p:blipFill>
        <p:spPr>
          <a:xfrm>
            <a:off x="3808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sonar"/>
          <p:cNvPicPr/>
          <p:nvPr/>
        </p:nvPicPr>
        <p:blipFill>
          <a:blip r:embed="rId2"/>
          <a:stretch/>
        </p:blipFill>
        <p:spPr>
          <a:xfrm>
            <a:off x="3352680" y="335268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sonar"/>
          <p:cNvPicPr/>
          <p:nvPr/>
        </p:nvPicPr>
        <p:blipFill>
          <a:blip r:embed="rId3"/>
          <a:stretch/>
        </p:blipFill>
        <p:spPr>
          <a:xfrm>
            <a:off x="6276960" y="4343400"/>
            <a:ext cx="26575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533520" y="528804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imals use sonar or echolocation to find their prey; these sounds have such a high pitch or frequency that the human ear cannot hea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553080" y="29718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s use sonar to locate or map objec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1.  Is a form of energy produced &amp; transmitted   by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vibrating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. 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Travels in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3.  </a:t>
            </a: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Travel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ore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quickly through solid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n liquids or ga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Palatino Linotype"/>
              </a:rPr>
              <a:t>Sound is carried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our ears </a:t>
            </a:r>
            <a:r>
              <a:rPr b="0" lang="en-US" sz="2800" spc="-1" strike="noStrike">
                <a:solidFill>
                  <a:srgbClr val="ff0000"/>
                </a:solidFill>
                <a:latin typeface="Palatino Linotype"/>
              </a:rPr>
              <a:t>through vibrating air molecul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ur ears take in sound waves &amp; turn them into signals that go to our brain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und waves move through 3 parts of the ear; outer ear, middle ear, &amp; inner ea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2362320" y="4545000"/>
            <a:ext cx="4038480" cy="2313000"/>
            <a:chOff x="2362320" y="4545000"/>
            <a:chExt cx="4038480" cy="2313000"/>
          </a:xfrm>
        </p:grpSpPr>
        <p:pic>
          <p:nvPicPr>
            <p:cNvPr id="89" name="Picture 10" descr="eardi"/>
            <p:cNvPicPr/>
            <p:nvPr/>
          </p:nvPicPr>
          <p:blipFill>
            <a:blip r:embed="rId1"/>
            <a:stretch/>
          </p:blipFill>
          <p:spPr>
            <a:xfrm>
              <a:off x="2362320" y="4545000"/>
              <a:ext cx="4038480" cy="231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0" name="AutoShape 7"/>
            <p:cNvSpPr/>
            <p:nvPr/>
          </p:nvSpPr>
          <p:spPr>
            <a:xfrm>
              <a:off x="3886200" y="6019920"/>
              <a:ext cx="1447560" cy="533160"/>
            </a:xfrm>
            <a:prstGeom prst="upArrowCallout">
              <a:avLst>
                <a:gd name="adj1" fmla="val 67883"/>
                <a:gd name="adj2" fmla="val 67876"/>
                <a:gd name="adj3" fmla="val 16667"/>
                <a:gd name="adj4" fmla="val 66660"/>
              </a:avLst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 Linotype"/>
                </a:rPr>
                <a:t>Middle Ear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300px-Anatomy_of_the_Human_Ear"/>
          <p:cNvPicPr/>
          <p:nvPr/>
        </p:nvPicPr>
        <p:blipFill>
          <a:blip r:embed="rId1"/>
          <a:stretch/>
        </p:blipFill>
        <p:spPr>
          <a:xfrm>
            <a:off x="838080" y="515880"/>
            <a:ext cx="76201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Back and forth movement of molecule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f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5" descr="musicnoise"/>
          <p:cNvPicPr/>
          <p:nvPr/>
        </p:nvPicPr>
        <p:blipFill>
          <a:blip r:embed="rId1"/>
          <a:stretch/>
        </p:blipFill>
        <p:spPr>
          <a:xfrm>
            <a:off x="533520" y="3657600"/>
            <a:ext cx="3429000" cy="24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iver"/>
          <p:cNvPicPr/>
          <p:nvPr/>
        </p:nvPicPr>
        <p:blipFill>
          <a:blip r:embed="rId2"/>
          <a:stretch/>
        </p:blipFill>
        <p:spPr>
          <a:xfrm>
            <a:off x="4876920" y="3505320"/>
            <a:ext cx="3200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Wave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ternating areas of high &amp; low pressur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is carried through matter as sound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move out in ALL direction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om a vibrating objec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5" descr="sf000-sound"/>
          <p:cNvPicPr/>
          <p:nvPr/>
        </p:nvPicPr>
        <p:blipFill>
          <a:blip r:embed="rId1"/>
          <a:stretch/>
        </p:blipFill>
        <p:spPr>
          <a:xfrm>
            <a:off x="6858000" y="228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stockphoto_576587_orange_blue_sound_waves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2514600" y="4876920"/>
            <a:ext cx="4114800" cy="173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Wavelength &amp; Frequenc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avelength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distance between one part of a wave and the same part of the next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2" name="Picture 9" descr="image001"/>
          <p:cNvPicPr/>
          <p:nvPr/>
        </p:nvPicPr>
        <p:blipFill>
          <a:blip r:embed="rId1"/>
          <a:stretch/>
        </p:blipFill>
        <p:spPr>
          <a:xfrm>
            <a:off x="3200400" y="2895480"/>
            <a:ext cx="32767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freq-wavelength"/>
          <p:cNvPicPr/>
          <p:nvPr/>
        </p:nvPicPr>
        <p:blipFill>
          <a:blip r:embed="rId2"/>
          <a:stretch/>
        </p:blipFill>
        <p:spPr>
          <a:xfrm>
            <a:off x="5257800" y="4641840"/>
            <a:ext cx="3505320" cy="2044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85800" y="44956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Frequency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umber of waves moving past a point in one secon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here molecules are being pressed together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s the sound waves move through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1Fig2"/>
          <p:cNvPicPr/>
          <p:nvPr/>
        </p:nvPicPr>
        <p:blipFill>
          <a:blip r:embed="rId1"/>
          <a:stretch/>
        </p:blipFill>
        <p:spPr>
          <a:xfrm>
            <a:off x="4800600" y="2590920"/>
            <a:ext cx="4130640" cy="3328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04920" y="2057400"/>
            <a:ext cx="46479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a wave travels through the springs just like sound waves travel through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the places where the springs are close together are like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compression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 in the ai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it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200400" cy="860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measure of how high or low a sound i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Pitch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Pitch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epends on the frequency of a sound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2" name="Picture 5" descr="sound waves"/>
          <p:cNvPicPr/>
          <p:nvPr/>
        </p:nvPicPr>
        <p:blipFill>
          <a:blip r:embed="rId2"/>
          <a:stretch/>
        </p:blipFill>
        <p:spPr>
          <a:xfrm>
            <a:off x="2971800" y="4191120"/>
            <a:ext cx="3124080" cy="148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3"/>
          <p:cNvSpPr/>
          <p:nvPr/>
        </p:nvSpPr>
        <p:spPr>
          <a:xfrm>
            <a:off x="304920" y="5029200"/>
            <a:ext cx="31240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ng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257800" y="5105520"/>
            <a:ext cx="36576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hort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0:30Z</dcterms:created>
  <dc:creator>John Doe</dc:creator>
  <dc:description/>
  <cp:keywords/>
  <dc:language>en-US</dc:language>
  <cp:lastModifiedBy>Denice Fogel User</cp:lastModifiedBy>
  <cp:lastPrinted>2011-10-17T15:27:44Z</cp:lastPrinted>
  <dcterms:modified xsi:type="dcterms:W3CDTF">2013-01-16T01:20:05Z</dcterms:modified>
  <cp:revision>58</cp:revision>
  <dc:subject/>
  <dc:title>S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33</vt:lpwstr>
  </property>
</Properties>
</file>